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0BD-923A-4E28-ACA5-F7235EDA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DCF-24A8-4C9D-B8E5-A8E29093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DF6-EC52-4897-9175-88C1035B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953-6DB1-4D04-BE26-D9DEA8DE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04C8-692B-4E8F-BF8B-72F424D3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7D05-5CEF-46B4-83BD-F7808342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831E-172C-4BA7-A4D2-8796E35A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45ED-9BE9-493A-BB11-5679D581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3E84-4A7F-4E2B-8141-0B66910E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87B1-220B-459C-97D8-94C85E8F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61D7-2065-4A48-9D3F-F3AE73CD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B7A-C27D-4BDE-A04E-989E5A23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B47-D751-4534-AC5A-410803A0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622A-357B-479E-8C7F-8F0D600C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A406-2E0D-4AF2-B9BA-6E02A74A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1205-7E95-49A8-B0BC-5D592178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B989-5B2A-4053-BA7B-948FB639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5D45-09CC-4CD3-BD9D-5D0EEE18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47AC-15E4-406D-AD65-2E53D7EA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2B6C-3AB6-4E98-95A8-780832D6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A140-195F-42B8-94D4-66F4D238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F659-8456-4542-BC2D-18BC1FE0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77A-B554-4376-BEC5-5E06A80E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F525-E7A2-4BD7-93FE-A0FE7100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EF5B-BA8A-4C0B-B433-F811F42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1B5A-79CE-438F-AD22-5A6737AF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F613-B27D-4910-AA08-3F5DC30A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5DE9-2503-4444-85B5-A026FD50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D07C-8F23-4585-A0D5-9FBEE642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4DA4-13C6-4A8D-A4E8-1CCE2F3D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3E3D-E084-42E3-AF0C-CAD0F3C4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8B42-E688-4AB7-8EDE-7C387A5F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89A2-1973-4A6C-BBEA-067127E9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B63-1AD5-49C4-B1E5-D633D500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B5FB-4F5C-48D5-949B-738419D0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9282-D0A0-474A-BE9C-E70E26EE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52FDE-379C-46D0-9F0F-0EDDE1F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8B65-F67D-4108-BB89-02BCECC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C02A-DBE3-4409-9CEB-79CC908F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7A81-EF5C-43ED-858E-495E8A0B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B60D-707B-4CBF-999D-C60B3CD6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8B8E-78A9-42BF-A93B-2174653E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34A94-6404-440E-ADD4-26A8209C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999-DA0C-4404-A44E-128458B1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DAF-0BF3-4526-80E1-40880660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1E7-4762-45A8-B43D-FB62E329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01E-2CC9-4171-BD85-A3E4EF66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40C-5B29-4820-944B-FD69C98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867F-D59B-426D-9E44-989F2F298FB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1EA6-96AF-4757-9D09-196875B9EF1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CDAD-1BF4-4A78-B9AB-CCB74DA6B85A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D5B0-89DC-4ED4-880E-BDD913A8589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віт про ро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Муніципальної інспек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Житомирської міської ра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а 2023 рі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395280" y="112536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До скла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муніципальної інспекції вход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c911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Сектор з питань благоустр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2. Сектор контролю за паркуван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3. Сектор підготовки адміністративних постан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395280" y="54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Завдання інспекції у сфері благоустр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58920" y="1229760"/>
            <a:ext cx="6984720" cy="49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-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за дотриманням діючого законодавства про благоустрій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 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населених пункт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в сфері незаконної торгівлі на вулицях міста, в тому числі незаконної торгівлі з рук у невстановлених для цього місцях, в межах повноваж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проведення роз’яснювальних та інформаційних заходів з метою </a:t>
            </a:r>
            <a:r>
              <a:rPr b="1" i="1" lang="ru-RU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творення умов для реалізації прав та виконання обов’язків суб’єктами  у  сфері  благоустрою  населених  пунктів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профілактичних заходів з метою запобігання правопорушенням в сфері благоустрою, торгівлі, зовнішньої реклами тощо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контролю за виданими паспортами прив’язки на тимчасові споруди відповідності умовам видачі та схемі розміщення тимчасової споруд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організація виконання рішень Житомирської міської ради, її виконавчого комітету, направлених на виникнення, зміну або припинення прав та обов’язків суб’єктів господарювання та фізичних осіб в сфері благоустрою міста, зовнішньої реклами, незаконної торгівлі в межах повноважень тощ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надання консультативної допомоги юридичним та фізичним особам в межах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розгляду звернень громадян та прийом громадян з питань, що відносяться до повноважень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61128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Завдання у сфері парку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6720" y="1185840"/>
            <a:ext cx="6912000" cy="47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контроль за дотриманням законодавства в сфері паркування транспортних засобів та їх тимчасового затримання у м. Житомирі (Правил паркування транспортних засобів, Правил дорожнього руху та інших нормативно-правових актів, що регулюють сферу паркування транспортних засобі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оведення профілактичних заходів щодо недопущення  вчинення правопорушень в сфері паркування транспортних засоб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тягнення винних осіб до відповідальності за порушення законодавства в сфері паркування транспортних засобів у м. Житомир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розробка та внесення пропозицій щодо формування державної політики з питань контролю за дотримання законодавства про організацію паркування транспортних засобів і безпеки дорожнього рух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кладання постанов про адміністративні правопорушення щодо порушень, розгляд яких належить до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фіксування правопорушень та прийняття рішень щодо притягнення до адміністративної відповідальності осіб, які вчиняють правопорушення в сфері паркування транспортних засобів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"/>
          <p:cNvSpPr/>
          <p:nvPr/>
        </p:nvSpPr>
        <p:spPr>
          <a:xfrm>
            <a:off x="324000" y="404640"/>
            <a:ext cx="71276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Показники діяльності муніципальної інспекції у 2023 роц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йнято документів (заяви, скарги, листи, повідомлення) – 3353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Зареєстровано вихідних документів інспекції  - 10795, в тому числ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– 607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для примусового виконання – 36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2"/>
          <p:cNvGraphicFramePr/>
          <p:nvPr/>
        </p:nvGraphicFramePr>
        <p:xfrm>
          <a:off x="0" y="1217520"/>
          <a:ext cx="9290160" cy="58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7520"/>
                    <a:ext cx="929016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3"/>
          <p:cNvSpPr/>
          <p:nvPr/>
        </p:nvSpPr>
        <p:spPr>
          <a:xfrm>
            <a:off x="-39672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ротоколи муніципальної інспекції за видами правопорушень 2023 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сього - 10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1020600"/>
          <a:ext cx="9302760" cy="583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0600"/>
                    <a:ext cx="930276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иписи муніципальної інспекції за видами правопорушень за 2023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сього - 25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539640" y="765000"/>
            <a:ext cx="7199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Показники діяльності муніципальної інспекції у 2023 році у сфері парк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- </a:t>
            </a: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зафіксовано порушень Правил дорожнього руху в частині зупинки, стоянки транспортних засобів більше 20тися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направлено постанов про накладення адміністративних стягнень для виконання – 607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передано постанов про накладення адміністративних стягнень до державної виконавчої служби для примусового їх виконання – 363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8:03:18Z</dcterms:created>
  <dc:creator>Гайова</dc:creator>
  <dc:description/>
  <dc:language>en-US</dc:language>
  <cp:lastModifiedBy>user</cp:lastModifiedBy>
  <cp:lastPrinted>2024-07-30T08:52:20Z</cp:lastPrinted>
  <dcterms:modified xsi:type="dcterms:W3CDTF">2024-07-30T12:42:03Z</dcterms:modified>
  <cp:revision>234</cp:revision>
  <dc:subject/>
  <dc:title>Слайд 1</dc:title>
</cp:coreProperties>
</file>